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F9A-7BCB-4E76-8DFD-5524BFD3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DE7-E40F-4347-91AC-09F0B8C7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101-0042-4EDA-AA86-C5111B7A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945D-F5B4-455F-A769-62751DEA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E9EB-A44D-491D-85A5-8C10E477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6A4-501D-482A-82CE-64FAEAC6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4342-95C3-4F1D-83D7-4D130C3A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6D35-83A2-4161-A9B7-11D521BDE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D5DD-E7CA-4CE4-81EF-E283BB69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3CD-2286-43D8-A3EB-F7FB0DDF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E8D-C4C9-4202-B631-15170C0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63F-534B-4970-B68E-8A727EC8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C229-397C-48CC-82CE-C46945E23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ntranet.cps.k12.ll.us/Assessments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entic Assessment Principles &amp;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Enhanced Learn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tructional Design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delyn D. Gupe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Criteria for Scoring Portfol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ughtfulness (including evidence of students’ monitoring of their own comprehen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and development in relation to key curriculum expectancies and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and application of key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ness, correctness, and appropriateness of products and processes presented in the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ty of entries (e.g., use of multiple formats to demonstrate achievement of designated performance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er Review and Group Feedb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evaluation of individual’s work by reviewers with the same or similar training (e.g., students reviewing the work of fellow stud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students an opportunity to be more involved in the lear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group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teachers to implement complex learning activities in large classes without (being discouraged by) having to read and evaluate each student’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volvement of students in identifying standards and /or criteria to apply to their work and making judgements about the extent to which they have met these criteria and standar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oud, 1995, 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hing to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ssessment should be a first thought, not an afterthough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ssess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various methods used to determine the extent to which students achieve the intended learning outcomes of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ll measures employed by teachers and schools to answer the question: Did students learn what they were supposed to lear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examples: quizzes, periodical tests, reports, term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uthentic Assess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traditional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s students’ abilities in real world contex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s to develop and measure multiple skills: cognitive skills, ability to integrate learning, creativity, ability to work collaboratively, and written and oral expression skills (instead of rote learning and passive test-ta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the learning process as much as the finished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s of Authentic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folio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 review and group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formance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tudents to perform a task (e.g., answering a question, making a product) that requires the application of critical think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+ RUBRIC = PERFORMANCE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eria for Selecting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task match the outcome you’re trying to meas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task require students to use critical thinking skil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ask worthwhile in use of instructional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assessment use engaging tasks from the “real world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eria for Selecting Tas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the task be used to measure several outcome at o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asks fair and free from bi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 task be cred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ask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ask clearly defi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Herman, Aschbacher and winters, 1992, in Chicago Public schools Instructional Intranet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ntranet.cps.k12.ll.us/Assessment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ing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assessing complex and subjective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assessment more objective and consistent because it is criterion-refere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benchmarks against which to measure student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ly shows students how their work will be evaluated and what is exp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folio = a purposeful collection of student’s work that shows the student’s efforts, progress, and achievements in one or more areas of the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represents student’s best work or best effort, student-selected samples of work related to learning outcomes being assessed, and evidence of growth and development towards mastery of learning outcomes (1. e., student’s self-ref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2:16:45Z</dcterms:created>
  <dc:creator>Student's</dc:creator>
  <dc:description/>
  <dc:language>en-US</dc:language>
  <cp:lastModifiedBy>Student's</cp:lastModifiedBy>
  <dcterms:modified xsi:type="dcterms:W3CDTF">2011-01-25T02:08:41Z</dcterms:modified>
  <cp:revision>7</cp:revision>
  <dc:subject/>
  <dc:title>Authentic Assessment Principles &amp; Methods</dc:title>
</cp:coreProperties>
</file>